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1BB55-2547-4615-871A-F54ECD21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C34F1-7CB3-43F9-A3FC-69572B23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54AA6-5601-48F7-B396-53D097FE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92083-322F-43B8-93D8-ED0D5486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6D70-F4FE-4131-906A-FE220321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F34C-935A-498D-AA0E-A607605D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408D-B3FD-4A04-AD07-37D65F97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9AFE-CBAE-4B3F-A885-AC7457EC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149C-8030-4FE8-A116-7CD52D8C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F46D-F32E-4B92-B55E-3D31715E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5F8A-7E00-4D5D-A2FE-D08044D9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4BE21-FC43-453E-9005-B2965810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9DE1-F15A-406A-B2C7-E9E66607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66A2-E85C-43FB-9C28-0D1D664A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9F21-9D42-4983-AA6F-98C0F518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C465-4FDA-4BD4-98CB-9AA399E3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A5D8-8B06-45F9-AC80-EFA3F6B5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234DE-D0FF-46DA-BAE2-06B58586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A303E-8A25-4863-B578-C343A557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1386D-A808-4E0A-BA34-C79583B8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F9944-5E4F-4041-8365-67D5DC0B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40829-791B-4CD6-8C88-C8680350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DE56E-4B1A-4433-9B44-E438D001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0A8BD-5737-4508-8B6E-E83380A7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FEB4-FFBE-42C5-ABFD-1A145FA0A1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EC61-E066-4CB0-B572-D9A88F8243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ecrets of Message Box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son 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s of Message Butt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1676520"/>
            <a:ext cx="35812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tt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1676520"/>
            <a:ext cx="35816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133720"/>
            <a:ext cx="35812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2133720"/>
            <a:ext cx="35816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b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590920"/>
            <a:ext cx="35812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k, Canc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2590920"/>
            <a:ext cx="35816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bOKCanc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048120"/>
            <a:ext cx="35812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ort, Retry, Ign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505320"/>
            <a:ext cx="35812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, No, Canc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962520"/>
            <a:ext cx="35812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, 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419720"/>
            <a:ext cx="35812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ry, Canc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3048120"/>
            <a:ext cx="35816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bAbortRetryIgn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3505320"/>
            <a:ext cx="35816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bYesNoCanc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3962520"/>
            <a:ext cx="35816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bYes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4419720"/>
            <a:ext cx="35816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bRetryCanc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6120" y="5486400"/>
            <a:ext cx="81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are the only buttons that we can create with visual basic scrip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eating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914040" y="1600200"/>
            <a:ext cx="60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asking a person if they like chocolate or no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3120" y="2170080"/>
            <a:ext cx="671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 Chocolat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m ChocoloateAnsw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ocolateAnswer= MsgBox("Do you like chocolate?" , vbYesN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ChocolateAnswer = vbYes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sgBox("I like chocolate too!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sgBox("Vanilla is a good choice.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6600" y="4952880"/>
            <a:ext cx="841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he  name of the subroutine is Chocolate.  Dim tells the computer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e want to create a variable.  In this case, it is ChocolateAnswer. Notic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e use a message box instead of an input box because we are us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b buttons Yes and No. If ChocolateAnswer = Yes- then I like chocolate to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 no we use the Else statement, Vanilla is a good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t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523880"/>
            <a:ext cx="34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other example : Quit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5680" y="2017800"/>
            <a:ext cx="6249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 QuitOK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m res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 = Msgbox("Are you sure you want to quit?", vbYesN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result =vbYes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SlideShowWindow.View.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SlideShowWindow.View.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2160" y="5141880"/>
            <a:ext cx="84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he name of the program is QuitOk.  The variable is result.  The buttons 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yes and no. If yes, the computer will exit the program.  If no, it will go to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next sl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5:45:28Z</dcterms:created>
  <dc:creator>jnatale</dc:creator>
  <dc:description/>
  <dc:language>en-US</dc:language>
  <cp:lastModifiedBy>jnatale</cp:lastModifiedBy>
  <dcterms:modified xsi:type="dcterms:W3CDTF">2009-02-19T15:23:06Z</dcterms:modified>
  <cp:revision>4</cp:revision>
  <dc:subject/>
  <dc:title>Secrets of Message Boxes</dc:title>
</cp:coreProperties>
</file>